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CF31E-F79A-4DD8-8069-2522A0A21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54C74-8F53-4B21-B0E3-542B25D94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EC393-3508-4150-A76D-5DA324073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EC7B-9857-48A3-B3BC-7C170179E4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53AF-700A-48AE-8B7B-AF4246F76C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0999B-3036-492D-B4D7-3CC28CD2F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0DB4-4A65-42B8-9984-4FD06F4EA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CE54-7920-40E4-8E03-0FE316B2E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437920" y="-360"/>
            <a:ext cx="6705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4626E-2959-468A-A2FA-0FEBF875D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F0479-B8C8-4653-984B-00ACF18C5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5B20-DD11-4865-B904-91E86035B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93278-C84B-43C1-AC0D-88F7F73D4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04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04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02400" y="6454440"/>
            <a:ext cx="2840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6C5B-92E2-4095-A70F-CA1652C9A2DC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514600" y="0"/>
            <a:ext cx="6642000" cy="1219320"/>
          </a:xfrm>
          <a:prstGeom prst="rect">
            <a:avLst/>
          </a:prstGeom>
          <a:gradFill rotWithShape="0">
            <a:gsLst>
              <a:gs pos="0">
                <a:srgbClr val="ffcc00">
                  <a:alpha val="55294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57520" cy="7812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255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685800"/>
            <a:ext cx="2298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ENGR330-1 Engineer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ervice Projec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ligion in Hait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519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an Catholicism (80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testant (16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ptist (10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ntecostal (4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ventist (1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(1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e (1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dou (50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402400" y="6454440"/>
            <a:ext cx="2840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B8D7-40CC-4A58-9F5C-6B66FF6C8B2D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ABD2-DAA4-48AC-BEE2-3EC91B35E5E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14600" y="0"/>
            <a:ext cx="6642000" cy="1219320"/>
          </a:xfrm>
          <a:prstGeom prst="rect">
            <a:avLst/>
          </a:prstGeom>
          <a:gradFill rotWithShape="0">
            <a:gsLst>
              <a:gs pos="0">
                <a:srgbClr val="ffcc00">
                  <a:alpha val="55294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57520" cy="781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255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685800"/>
            <a:ext cx="2298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ENGR330-1 Engineer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ervice Projec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atholicis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icial state relig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11-First Dioceses were started in Hai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60-Concordant between Haiti and the RC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chbishop appoin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64-Saint Martial Semin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line of the Catholic Church in Hai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96 and 1941-campaigns against Vodo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ing in the 1970s-incorporated folk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0 to today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76D8-3BA2-412A-85FA-0AB67267323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14600" y="0"/>
            <a:ext cx="6642000" cy="1219320"/>
          </a:xfrm>
          <a:prstGeom prst="rect">
            <a:avLst/>
          </a:prstGeom>
          <a:gradFill rotWithShape="0">
            <a:gsLst>
              <a:gs pos="0">
                <a:srgbClr val="ffcc00">
                  <a:alpha val="55294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57520" cy="781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255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685800"/>
            <a:ext cx="2298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ENGR330-1 Engineer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ervice Projec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aitian Vodou (history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 until 1685-practic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85-Code Noir-Louis XIV of F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t sa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t ca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791-Haitian Rev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8F2C-70C7-4F47-B120-08697CC1D72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14600" y="0"/>
            <a:ext cx="6642000" cy="1219320"/>
          </a:xfrm>
          <a:prstGeom prst="rect">
            <a:avLst/>
          </a:prstGeom>
          <a:gradFill rotWithShape="0">
            <a:gsLst>
              <a:gs pos="0">
                <a:srgbClr val="ffcc00">
                  <a:alpha val="55294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57520" cy="781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255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685800"/>
            <a:ext cx="2298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ENGR330-1 Engineer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ervice Projec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aitian Vodou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West African relig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ities, spirits, and pri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d diety-Bondy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wa (Miste or Misteri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gans and Mamb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ncritis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ABAB-291E-4D9B-9576-1E6BF6B5647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14600" y="0"/>
            <a:ext cx="6642000" cy="1219320"/>
          </a:xfrm>
          <a:prstGeom prst="rect">
            <a:avLst/>
          </a:prstGeom>
          <a:gradFill rotWithShape="0">
            <a:gsLst>
              <a:gs pos="0">
                <a:srgbClr val="ffcc00">
                  <a:alpha val="55294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57520" cy="781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255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685800"/>
            <a:ext cx="2298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ENGR330-1 Engineer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ervice Projec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ther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ha’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16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du'l-Bah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36-the vision coming to fru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l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ing in 192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67F8-24A0-41A9-9841-2120E1CCDCB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14600" y="0"/>
            <a:ext cx="6642000" cy="1219320"/>
          </a:xfrm>
          <a:prstGeom prst="rect">
            <a:avLst/>
          </a:prstGeom>
          <a:gradFill rotWithShape="0">
            <a:gsLst>
              <a:gs pos="0">
                <a:srgbClr val="ffcc00">
                  <a:alpha val="55294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57520" cy="781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255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685800"/>
            <a:ext cx="2298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ENGR330-1 Engineer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ervice Projec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B4BF7-B46F-4575-8CF1-D0A0BA79FA5A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 Wells</dc:creator>
  <dc:description/>
  <dc:language>en-US</dc:language>
  <cp:lastModifiedBy/>
  <cp:revision>0</cp:revision>
  <dc:subject/>
  <dc:title>Slide 1</dc:title>
</cp:coreProperties>
</file>